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4FC-8935-42C2-9511-A66648F5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4DD-BF33-45A5-B82C-7CBD7DA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DE8-4591-4BE0-848E-684F56E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315-C545-4FB4-AEE8-1C6C9EDE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BDD-8FBD-41A8-874F-A25A70A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156-843A-4639-BA72-3DC9F84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EC3-01C4-420A-B32E-BFBA0E1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907-6799-46EC-9304-5BEDDBC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3A0-9704-4FC6-88CC-79C9C5A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FAC-68DC-4125-9443-5B59B58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C0B-CACD-44B6-B4C5-12764E0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A2B-65D6-4849-9023-3C4F104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D253B-B418-4C32-A4F4-44BE629456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A7241-221F-49CF-AAEF-C79358690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Triples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WG Semantic Web Sub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IP Semantic Web Cl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 with and demonstrate link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dder for ESIP semantic web test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 simple, real project for hands-on ESIP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basic semantic web to H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“database” of who’s doing what with what (and 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imple ontology of Projects, People, Datasets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e with ACCESS, MEaSUREs and similar project instance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e triples in ESIP Testbed triple 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ESIP_Project.png"/>
          <p:cNvPicPr/>
          <p:nvPr/>
        </p:nvPicPr>
        <p:blipFill>
          <a:blip r:embed="rId1"/>
          <a:stretch/>
        </p:blipFill>
        <p:spPr>
          <a:xfrm>
            <a:off x="457200" y="1881360"/>
            <a:ext cx="822960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nstance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ESIP_Project_Instances.jpg"/>
          <p:cNvPicPr/>
          <p:nvPr/>
        </p:nvPicPr>
        <p:blipFill>
          <a:blip r:embed="rId1"/>
          <a:srcRect l="0" t="-20515" r="0" b="-2051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Triples Workshop at ESIP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as linked data (RDF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 into ESIP triple st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nd federate Dataset triples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te with Hook’s technology funding gap ont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in with Petr’s detailed project ont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3:31:43Z</dcterms:created>
  <dc:creator>Christopher Lynnes</dc:creator>
  <dc:description/>
  <dc:language>en-US</dc:language>
  <cp:lastModifiedBy>Peter Fox</cp:lastModifiedBy>
  <dcterms:modified xsi:type="dcterms:W3CDTF">2010-11-22T20:14:00Z</dcterms:modified>
  <cp:revision>12</cp:revision>
  <dc:subject/>
  <dc:title>Triples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391D0FAB35F459D823C07D2CD732B</vt:lpwstr>
  </property>
</Properties>
</file>